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7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26.jpeg" ContentType="image/jpeg"/>
  <Override PartName="/ppt/media/image36.png" ContentType="image/png"/>
  <Override PartName="/ppt/media/image40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4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9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9742-A255-4B6E-88C2-A9F30193D7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027-7015-40C0-BB91-5C3D8758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BCB-95B9-4A42-800D-8AAABEF7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FB3-43D7-40A8-A101-17999B54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B53-6589-47D3-A099-4663FE87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5285-90EE-4756-82F6-15E391BE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B2C7-2930-4734-9F03-EEE04B2B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5963-738E-46C3-AD33-62C2E41B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E6F4-1D27-40E9-8A51-11BDFE6F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0BC7-72C6-4DD3-B941-9D5AF59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A47B-2745-4725-BB93-2E19AE04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552A-16C5-4027-B12A-09CDA2AE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671-20B7-4FAE-BFA7-8625EC6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FE3C-EE39-44AD-93DF-B2D089B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F850-644B-4117-ADA0-C1FE65E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50D2-2892-47B1-B33E-543D55C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AB23-0A9F-4E9D-B8E3-45C4F77B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6C88-216D-4A64-B5C7-9FA2AF45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17A-6476-44C7-B416-3F1BA8E5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4EA-2C6E-4650-BCFD-BC2B96B2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47A-A13A-4A12-BA3E-9E9971E2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ADA-C5B2-4C2E-AD0B-BDC6E3F9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36C-A93B-4FBA-B0E1-83ED562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6FD-D74F-4733-8A62-4155202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4D7-EFDF-4A73-A6FA-7721EBD1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1722-C8B5-4D73-9DA3-B748052036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1522-7186-491E-9B8C-57A71162B8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3284640"/>
            <a:ext cx="541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Автор работы: Черникова  Екатерина, 8 «В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Руководитель :социальный педагог Афанасьева И.И.</a:t>
            </a: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офилактика,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050920" y="2637000"/>
            <a:ext cx="5113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УБЕРКУЛЕЗ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771640" y="1989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700360" y="1341360"/>
            <a:ext cx="345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диагностик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989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ечение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18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Палочки Коха"/>
          <p:cNvPicPr/>
          <p:nvPr/>
        </p:nvPicPr>
        <p:blipFill>
          <a:blip r:embed="rId1"/>
          <a:stretch/>
        </p:blipFill>
        <p:spPr>
          <a:xfrm>
            <a:off x="5479920" y="184464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32640" y="403920"/>
            <a:ext cx="82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Каки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обладает возбудитель туберкулеза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272320"/>
            <a:ext cx="5184720" cy="3506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79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Как происходит заражение</a:t>
            </a: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32764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 Black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колонии бактерий туберкулеза"/>
          <p:cNvPicPr/>
          <p:nvPr/>
        </p:nvPicPr>
        <p:blipFill>
          <a:blip r:embed="rId1"/>
          <a:stretch/>
        </p:blipFill>
        <p:spPr>
          <a:xfrm>
            <a:off x="5506920" y="1773360"/>
            <a:ext cx="3457800" cy="33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3str3"/>
          <p:cNvPicPr/>
          <p:nvPr/>
        </p:nvPicPr>
        <p:blipFill>
          <a:blip r:embed="rId2"/>
          <a:stretch/>
        </p:blipFill>
        <p:spPr>
          <a:xfrm>
            <a:off x="250920" y="1989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str3"/>
          <p:cNvPicPr/>
          <p:nvPr/>
        </p:nvPicPr>
        <p:blipFill>
          <a:blip r:embed="rId3"/>
          <a:stretch/>
        </p:blipFill>
        <p:spPr>
          <a:xfrm>
            <a:off x="250920" y="335772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3str3"/>
          <p:cNvPicPr/>
          <p:nvPr/>
        </p:nvPicPr>
        <p:blipFill>
          <a:blip r:embed="rId4"/>
          <a:stretch/>
        </p:blipFill>
        <p:spPr>
          <a:xfrm>
            <a:off x="250920" y="4653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80" name="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4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000" y="1844640"/>
            <a:ext cx="6156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Аэрогенны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вдыхании воздух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Контак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ерез предметы бы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Пищ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употреблении в пищу зараженных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туб1"/>
          <p:cNvPicPr/>
          <p:nvPr/>
        </p:nvPicPr>
        <p:blipFill>
          <a:blip r:embed="rId1"/>
          <a:stretch/>
        </p:blipFill>
        <p:spPr>
          <a:xfrm>
            <a:off x="6084720" y="1700280"/>
            <a:ext cx="2881440" cy="36734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39528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ути заражения микобактериями туберку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2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979640" y="692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163872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сителями туберкулез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7280" y="4221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538280"/>
            <a:ext cx="9144000" cy="374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1216080"/>
            <a:ext cx="9144000" cy="563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6" name="Picture 7" descr="tuberculosis_roentgen_300"/>
          <p:cNvPicPr/>
          <p:nvPr/>
        </p:nvPicPr>
        <p:blipFill>
          <a:blip r:embed="rId1"/>
          <a:stretch/>
        </p:blipFill>
        <p:spPr>
          <a:xfrm>
            <a:off x="5219640" y="1413000"/>
            <a:ext cx="37022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9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5352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6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1563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uber7"/>
          <p:cNvPicPr/>
          <p:nvPr/>
        </p:nvPicPr>
        <p:blipFill>
          <a:blip r:embed="rId1"/>
          <a:stretch/>
        </p:blipFill>
        <p:spPr>
          <a:xfrm>
            <a:off x="6877080" y="1557360"/>
            <a:ext cx="1582560" cy="179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6446160" y="3499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2635762&amp;tov=7"/>
          <p:cNvPicPr/>
          <p:nvPr/>
        </p:nvPicPr>
        <p:blipFill>
          <a:blip r:embed="rId2"/>
          <a:stretch/>
        </p:blipFill>
        <p:spPr>
          <a:xfrm>
            <a:off x="6300720" y="4149720"/>
            <a:ext cx="1582920" cy="1801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5363640" y="5805360"/>
            <a:ext cx="2673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ар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08" name="1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67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str3"/>
          <p:cNvPicPr/>
          <p:nvPr/>
        </p:nvPicPr>
        <p:blipFill>
          <a:blip r:embed="rId1"/>
          <a:stretch/>
        </p:blipFill>
        <p:spPr>
          <a:xfrm>
            <a:off x="324000" y="191628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str3"/>
          <p:cNvPicPr/>
          <p:nvPr/>
        </p:nvPicPr>
        <p:blipFill>
          <a:blip r:embed="rId2"/>
          <a:stretch/>
        </p:blipFill>
        <p:spPr>
          <a:xfrm>
            <a:off x="324000" y="2349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str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str3"/>
          <p:cNvPicPr/>
          <p:nvPr/>
        </p:nvPicPr>
        <p:blipFill>
          <a:blip r:embed="rId4"/>
          <a:stretch/>
        </p:blipFill>
        <p:spPr>
          <a:xfrm>
            <a:off x="25092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3str3"/>
          <p:cNvPicPr/>
          <p:nvPr/>
        </p:nvPicPr>
        <p:blipFill>
          <a:blip r:embed="rId5"/>
          <a:stretch/>
        </p:blipFill>
        <p:spPr>
          <a:xfrm>
            <a:off x="250920" y="4221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3str3"/>
          <p:cNvPicPr/>
          <p:nvPr/>
        </p:nvPicPr>
        <p:blipFill>
          <a:blip r:embed="rId6"/>
          <a:stretch/>
        </p:blipFill>
        <p:spPr>
          <a:xfrm>
            <a:off x="324000" y="4941720"/>
            <a:ext cx="342720" cy="239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1619280" y="476280"/>
            <a:ext cx="53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ак распозн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219" name="1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21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7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9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1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84360" y="549360"/>
            <a:ext cx="7769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 при появлении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изнаков заболевания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148840"/>
            <a:ext cx="82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27680" y="5013360"/>
            <a:ext cx="68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к вра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за медицинской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053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5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Если зараженный человек не заболевает сразу, то он становится носителем инфекции. Это можно выявить только с помощью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робы Мант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456000" cy="22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69244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572000" y="4512240"/>
            <a:ext cx="41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акция на пробу Манту считается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оложительной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формировании инфильтрата (папулы) диаметром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5м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06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5148360" y="1125360"/>
            <a:ext cx="3744720" cy="360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76868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флюорографическое обследование (ФЛ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98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2521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уберкулез: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угроза для всей планеты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187280" y="33336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68360" y="1888200"/>
            <a:ext cx="7991280" cy="41781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к врачу-фтизиатру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1760400"/>
            <a:ext cx="8569080" cy="448308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Заподозрить и выявить туберкулезный процесс можно следующими основными методам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1.при проведении проб Мант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2. ФЛГ обследова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3. при исследовании мокроты на наличие бактер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335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5029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Картинка 6 из 3246"/>
          <p:cNvPicPr/>
          <p:nvPr/>
        </p:nvPicPr>
        <p:blipFill>
          <a:blip r:embed="rId1"/>
          <a:stretch/>
        </p:blipFill>
        <p:spPr>
          <a:xfrm>
            <a:off x="5796000" y="2347920"/>
            <a:ext cx="3097080" cy="3529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179280" y="1557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2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2724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16000" y="1197000"/>
            <a:ext cx="8893080" cy="55803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зиотерапию, дыхательную гимнастику и препараты, поднимающие иммунит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2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281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туб1"/>
          <p:cNvPicPr/>
          <p:nvPr/>
        </p:nvPicPr>
        <p:blipFill>
          <a:blip r:embed="rId1"/>
          <a:stretch/>
        </p:blipFill>
        <p:spPr>
          <a:xfrm>
            <a:off x="6588000" y="2637000"/>
            <a:ext cx="2376720" cy="2954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ves1"/>
          <p:cNvPicPr/>
          <p:nvPr/>
        </p:nvPicPr>
        <p:blipFill>
          <a:blip r:embed="rId2"/>
          <a:stretch/>
        </p:blipFill>
        <p:spPr>
          <a:xfrm>
            <a:off x="6443640" y="333360"/>
            <a:ext cx="1379520" cy="1339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3str3"/>
          <p:cNvPicPr/>
          <p:nvPr/>
        </p:nvPicPr>
        <p:blipFill>
          <a:blip r:embed="rId3"/>
          <a:stretch/>
        </p:blipFill>
        <p:spPr>
          <a:xfrm>
            <a:off x="324000" y="3573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3str3"/>
          <p:cNvPicPr/>
          <p:nvPr/>
        </p:nvPicPr>
        <p:blipFill>
          <a:blip r:embed="rId4"/>
          <a:stretch/>
        </p:blipFill>
        <p:spPr>
          <a:xfrm>
            <a:off x="324000" y="4437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3str3"/>
          <p:cNvPicPr/>
          <p:nvPr/>
        </p:nvPicPr>
        <p:blipFill>
          <a:blip r:embed="rId5"/>
          <a:stretch/>
        </p:blipFill>
        <p:spPr>
          <a:xfrm>
            <a:off x="324000" y="5229360"/>
            <a:ext cx="342720" cy="2394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900000" y="620640"/>
            <a:ext cx="431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офилак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62" name="23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33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71280" y="1649160"/>
            <a:ext cx="8964720" cy="484884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252080" y="332280"/>
            <a:ext cx="65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Как защитить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от заражения туберкулезом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2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152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1088280"/>
            <a:ext cx="8424720" cy="155700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4689360" cy="3125880"/>
          </a:xfrm>
          <a:prstGeom prst="rect">
            <a:avLst/>
          </a:prstGeom>
          <a:ln w="0">
            <a:noFill/>
          </a:ln>
        </p:spPr>
      </p:pic>
      <p:pic>
        <p:nvPicPr>
          <p:cNvPr id="270" name="2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11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547560"/>
            <a:ext cx="9144000" cy="3506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на 3-7 день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, первая ревакцинаци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7 лет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и втора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232000" cy="205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2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081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5"/>
          <p:cNvSpPr txBox="1"/>
          <p:nvPr/>
        </p:nvSpPr>
        <p:spPr>
          <a:xfrm>
            <a:off x="826920" y="260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, если туберкулезом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олен Ваш друг или родственник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333440" y="2238480"/>
            <a:ext cx="631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Немедл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посоветуйте 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обратиться к вра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2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630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3059280" y="836640"/>
            <a:ext cx="30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95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одумайте о сохранении своего здоровья и окружающих Вас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&amp;usg=AFQjCNEIKSW-FOzZQEtsKAcbgKBFgvhwuw"/>
          <p:cNvPicPr/>
          <p:nvPr/>
        </p:nvPicPr>
        <p:blipFill>
          <a:blip r:embed="rId1"/>
          <a:stretch/>
        </p:blipFill>
        <p:spPr>
          <a:xfrm>
            <a:off x="5003640" y="1989000"/>
            <a:ext cx="3810240" cy="3241800"/>
          </a:xfrm>
          <a:prstGeom prst="rect">
            <a:avLst/>
          </a:prstGeom>
          <a:ln w="0">
            <a:noFill/>
          </a:ln>
        </p:spPr>
      </p:pic>
      <p:pic>
        <p:nvPicPr>
          <p:cNvPr id="286" name="2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373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89" name="Picture 4" descr="0607241539340_m"/>
          <p:cNvPicPr/>
          <p:nvPr/>
        </p:nvPicPr>
        <p:blipFill>
          <a:blip r:embed="rId1"/>
          <a:stretch/>
        </p:blipFill>
        <p:spPr>
          <a:xfrm>
            <a:off x="6588000" y="260280"/>
            <a:ext cx="1749600" cy="1440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2627280" y="765000"/>
            <a:ext cx="3087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311280" cy="271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640240"/>
          </a:xfrm>
          <a:prstGeom prst="rect">
            <a:avLst/>
          </a:prstGeom>
          <a:ln w="0">
            <a:noFill/>
          </a:ln>
        </p:spPr>
      </p:pic>
      <p:pic>
        <p:nvPicPr>
          <p:cNvPr id="294" name="2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16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60520"/>
            <a:ext cx="8353440" cy="98712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распространенно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инфекционное заболевани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возбудителем которого является микобактерия туберкулеза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МБТ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)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8136000" cy="2266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24 марта – </a:t>
            </a:r>
            <a:br>
              <a:rPr sz="4500"/>
            </a:b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Всемирный день борьбы с туберкулезом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775080" y="606888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Символ борьбы с туберкулезом – рома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781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Презентацию подготов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ронникова Екатерина Львовна,</a:t>
            </a: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учитель МБОУ СОШ № 8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Дзержинского рай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города Новосибирс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2009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80360" cy="114300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096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важнейшая социальная и медицинская пробле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901800" y="3754440"/>
          <a:ext cx="475596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754440"/>
                    <a:ext cx="4755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2280" y="30686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болев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8472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6083280" y="3608280"/>
          <a:ext cx="220680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3280" y="3608280"/>
                    <a:ext cx="2206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19106"/>
          <p:cNvPicPr/>
          <p:nvPr/>
        </p:nvPicPr>
        <p:blipFill>
          <a:blip r:embed="rId1"/>
          <a:stretch/>
        </p:blipFill>
        <p:spPr>
          <a:xfrm>
            <a:off x="6443640" y="4292640"/>
            <a:ext cx="1944720" cy="175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13513"/>
          <p:cNvPicPr/>
          <p:nvPr/>
        </p:nvPicPr>
        <p:blipFill>
          <a:blip r:embed="rId2"/>
          <a:stretch/>
        </p:blipFill>
        <p:spPr>
          <a:xfrm>
            <a:off x="539640" y="4581360"/>
            <a:ext cx="2592360" cy="18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5360"/>
          <p:cNvPicPr/>
          <p:nvPr/>
        </p:nvPicPr>
        <p:blipFill>
          <a:blip r:embed="rId3"/>
          <a:stretch/>
        </p:blipFill>
        <p:spPr>
          <a:xfrm>
            <a:off x="6877080" y="2060640"/>
            <a:ext cx="1811160" cy="155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j0205361"/>
          <p:cNvPicPr/>
          <p:nvPr/>
        </p:nvPicPr>
        <p:blipFill>
          <a:blip r:embed="rId4"/>
          <a:stretch/>
        </p:blipFill>
        <p:spPr>
          <a:xfrm>
            <a:off x="468360" y="206064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j0236210"/>
          <p:cNvPicPr/>
          <p:nvPr/>
        </p:nvPicPr>
        <p:blipFill>
          <a:blip r:embed="rId5"/>
          <a:stretch/>
        </p:blipFill>
        <p:spPr>
          <a:xfrm>
            <a:off x="3348000" y="703440"/>
            <a:ext cx="2664000" cy="92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283229"/>
          <p:cNvPicPr/>
          <p:nvPr/>
        </p:nvPicPr>
        <p:blipFill>
          <a:blip r:embed="rId6"/>
          <a:stretch/>
        </p:blipFill>
        <p:spPr>
          <a:xfrm>
            <a:off x="2627280" y="1916280"/>
            <a:ext cx="36655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22"/>
          <p:cNvSpPr txBox="1"/>
          <p:nvPr/>
        </p:nvSpPr>
        <p:spPr>
          <a:xfrm>
            <a:off x="611280" y="18900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болеет туберкулезом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9" name="Picture 20" descr="j028283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j0186348"/>
          <p:cNvPicPr/>
          <p:nvPr/>
        </p:nvPicPr>
        <p:blipFill>
          <a:blip r:embed="rId8"/>
          <a:stretch/>
        </p:blipFill>
        <p:spPr>
          <a:xfrm>
            <a:off x="3276720" y="1484280"/>
            <a:ext cx="266832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5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01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16240" cy="32414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34800" y="476280"/>
            <a:ext cx="8809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гда стало известно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б этом заболевании?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00960" y="5156640"/>
            <a:ext cx="361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(460 - 377 г. до нашей э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19040" cy="31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824360" y="494172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Абу Али Хус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ибн Абдаллах ибн Сина (Авицен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(980 — 10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-729720"/>
            <a:ext cx="9144000" cy="7772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основные клинические проявления туберкул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длительный 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аб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мок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истощение, снижение ве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ровохарка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отливость в ноч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боль в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66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1636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7610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065400" cy="38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5439240" y="620640"/>
            <a:ext cx="24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4527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755640" y="692280"/>
            <a:ext cx="318456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485880" cy="4464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435640" y="620640"/>
            <a:ext cx="273528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7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99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акторы, способствующие заболеванию туберкулезом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str3"/>
          <p:cNvPicPr/>
          <p:nvPr/>
        </p:nvPicPr>
        <p:blipFill>
          <a:blip r:embed="rId1"/>
          <a:stretch/>
        </p:blipFill>
        <p:spPr>
          <a:xfrm>
            <a:off x="468360" y="206064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str3"/>
          <p:cNvPicPr/>
          <p:nvPr/>
        </p:nvPicPr>
        <p:blipFill>
          <a:blip r:embed="rId2"/>
          <a:stretch/>
        </p:blipFill>
        <p:spPr>
          <a:xfrm>
            <a:off x="395280" y="292428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str3"/>
          <p:cNvPicPr/>
          <p:nvPr/>
        </p:nvPicPr>
        <p:blipFill>
          <a:blip r:embed="rId3"/>
          <a:stretch/>
        </p:blipFill>
        <p:spPr>
          <a:xfrm>
            <a:off x="32400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str3"/>
          <p:cNvPicPr/>
          <p:nvPr/>
        </p:nvPicPr>
        <p:blipFill>
          <a:blip r:embed="rId4"/>
          <a:stretch/>
        </p:blipFill>
        <p:spPr>
          <a:xfrm>
            <a:off x="395280" y="4365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3str3"/>
          <p:cNvPicPr/>
          <p:nvPr/>
        </p:nvPicPr>
        <p:blipFill>
          <a:blip r:embed="rId5"/>
          <a:stretch/>
        </p:blipFill>
        <p:spPr>
          <a:xfrm>
            <a:off x="395280" y="4941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8" name="8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1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36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оберт Кох </a:t>
            </a:r>
            <a:br>
              <a:rPr sz="2900"/>
            </a:b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(1843–1910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белевской пр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ОБЕРТ КОХ "/>
          <p:cNvPicPr/>
          <p:nvPr/>
        </p:nvPicPr>
        <p:blipFill>
          <a:blip r:embed="rId1"/>
          <a:stretch/>
        </p:blipFill>
        <p:spPr>
          <a:xfrm>
            <a:off x="5292720" y="1701720"/>
            <a:ext cx="314172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95280" y="312480"/>
            <a:ext cx="84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то открыл возбудителя туберкулеза и доказал, что это не наследственное, а 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инфекционное заболевание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24000" y="1989000"/>
            <a:ext cx="4895640" cy="383364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алочкой Коха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76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04:17Z</dcterms:created>
  <dc:creator>User</dc:creator>
  <dc:description/>
  <dc:language>en-US</dc:language>
  <cp:lastModifiedBy>LEGION</cp:lastModifiedBy>
  <dcterms:modified xsi:type="dcterms:W3CDTF">2015-11-27T12:47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